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oth have a hole in the middle - The digestive system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long do you think your digestive system is?  Ss write down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7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7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2520" indent="-925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6"/>
          <p:cNvGrpSpPr/>
          <p:nvPr/>
        </p:nvGrpSpPr>
        <p:grpSpPr>
          <a:xfrm>
            <a:off x="0" y="277920"/>
            <a:ext cx="15965280" cy="9037080"/>
            <a:chOff x="0" y="277920"/>
            <a:chExt cx="15965280" cy="9037080"/>
          </a:xfrm>
        </p:grpSpPr>
        <p:pic>
          <p:nvPicPr>
            <p:cNvPr id="567" name="Picture 1" descr=""/>
            <p:cNvPicPr/>
            <p:nvPr/>
          </p:nvPicPr>
          <p:blipFill>
            <a:blip r:embed="rId1"/>
            <a:stretch/>
          </p:blipFill>
          <p:spPr>
            <a:xfrm>
              <a:off x="4770000" y="2660400"/>
              <a:ext cx="4997160" cy="49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4407840"/>
              <a:ext cx="4761360" cy="47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3" descr=""/>
            <p:cNvPicPr/>
            <p:nvPr/>
          </p:nvPicPr>
          <p:blipFill>
            <a:blip r:embed="rId3"/>
            <a:stretch/>
          </p:blipFill>
          <p:spPr>
            <a:xfrm>
              <a:off x="9767520" y="4498920"/>
              <a:ext cx="4858200" cy="48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4" descr=""/>
            <p:cNvPicPr/>
            <p:nvPr/>
          </p:nvPicPr>
          <p:blipFill>
            <a:blip r:embed="rId4"/>
            <a:stretch/>
          </p:blipFill>
          <p:spPr>
            <a:xfrm>
              <a:off x="640440" y="683640"/>
              <a:ext cx="4164120" cy="41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5" descr=""/>
            <p:cNvPicPr/>
            <p:nvPr/>
          </p:nvPicPr>
          <p:blipFill>
            <a:blip r:embed="rId5"/>
            <a:stretch/>
          </p:blipFill>
          <p:spPr>
            <a:xfrm>
              <a:off x="11801160" y="277920"/>
              <a:ext cx="4164120" cy="412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Rectangle 7"/>
          <p:cNvSpPr/>
          <p:nvPr/>
        </p:nvSpPr>
        <p:spPr>
          <a:xfrm>
            <a:off x="3233160" y="13680"/>
            <a:ext cx="97956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00063"/>
                </a:solidFill>
                <a:latin typeface="Arial Bold"/>
                <a:ea typeface="Arial Bold"/>
              </a:rPr>
              <a:t>Why are you like a donut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son#10: Digestion System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c52"/>
                </a:solidFill>
                <a:latin typeface="Arial Italic"/>
                <a:ea typeface="Arial Italic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90b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"/>
                <a:ea typeface="Arial"/>
              </a:rPr>
              <a:t>Describe and explain the functions organs of the digestive system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 - How long is your digestive system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7" name="Group 10"/>
          <p:cNvGrpSpPr/>
          <p:nvPr/>
        </p:nvGrpSpPr>
        <p:grpSpPr>
          <a:xfrm>
            <a:off x="-25560" y="2260440"/>
            <a:ext cx="3886200" cy="4216320"/>
            <a:chOff x="-25560" y="2260440"/>
            <a:chExt cx="3886200" cy="4216320"/>
          </a:xfrm>
        </p:grpSpPr>
        <p:pic>
          <p:nvPicPr>
            <p:cNvPr id="578" name="Picture 8" descr=""/>
            <p:cNvPicPr/>
            <p:nvPr/>
          </p:nvPicPr>
          <p:blipFill>
            <a:blip r:embed="rId1"/>
            <a:stretch/>
          </p:blipFill>
          <p:spPr>
            <a:xfrm>
              <a:off x="-25560" y="2260440"/>
              <a:ext cx="3886200" cy="42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AutoShape 9"/>
            <p:cNvSpPr/>
            <p:nvPr/>
          </p:nvSpPr>
          <p:spPr>
            <a:xfrm rot="19800000">
              <a:off x="939600" y="4520520"/>
              <a:ext cx="1263600" cy="735120"/>
            </a:xfrm>
            <a:custGeom>
              <a:avLst/>
              <a:gdLst/>
              <a:ahLst/>
              <a:rect l="l" t="t" r="r" b="b"/>
              <a:pathLst>
                <a:path w="21600" h="21570">
                  <a:moveTo>
                    <a:pt x="14" y="10785"/>
                  </a:moveTo>
                  <a:lnTo>
                    <a:pt x="6797" y="26"/>
                  </a:lnTo>
                  <a:lnTo>
                    <a:pt x="6804" y="5418"/>
                  </a:lnTo>
                  <a:lnTo>
                    <a:pt x="14810" y="5449"/>
                  </a:lnTo>
                  <a:lnTo>
                    <a:pt x="14803" y="56"/>
                  </a:lnTo>
                  <a:lnTo>
                    <a:pt x="21614" y="10867"/>
                  </a:lnTo>
                  <a:lnTo>
                    <a:pt x="14831" y="21626"/>
                  </a:lnTo>
                  <a:lnTo>
                    <a:pt x="14824" y="16234"/>
                  </a:lnTo>
                  <a:lnTo>
                    <a:pt x="6818" y="16203"/>
                  </a:lnTo>
                  <a:lnTo>
                    <a:pt x="6825" y="21596"/>
                  </a:lnTo>
                  <a:lnTo>
                    <a:pt x="14" y="10785"/>
                  </a:lnTo>
                  <a:close/>
                  <a:moveTo>
                    <a:pt x="14" y="10785"/>
                  </a:move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80" name="Group 13"/>
          <p:cNvGrpSpPr/>
          <p:nvPr/>
        </p:nvGrpSpPr>
        <p:grpSpPr>
          <a:xfrm>
            <a:off x="4464000" y="2057400"/>
            <a:ext cx="3664080" cy="5029200"/>
            <a:chOff x="4464000" y="2057400"/>
            <a:chExt cx="3664080" cy="5029200"/>
          </a:xfrm>
        </p:grpSpPr>
        <p:pic>
          <p:nvPicPr>
            <p:cNvPr id="581" name="Picture 11" descr=""/>
            <p:cNvPicPr/>
            <p:nvPr/>
          </p:nvPicPr>
          <p:blipFill>
            <a:blip r:embed="rId2"/>
            <a:stretch/>
          </p:blipFill>
          <p:spPr>
            <a:xfrm>
              <a:off x="4464000" y="2057400"/>
              <a:ext cx="36640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AutoShape 12"/>
            <p:cNvSpPr/>
            <p:nvPr/>
          </p:nvSpPr>
          <p:spPr>
            <a:xfrm rot="16200000">
              <a:off x="5241960" y="4555800"/>
              <a:ext cx="1981080" cy="793800"/>
            </a:xfrm>
            <a:prstGeom prst="leftRightArrow">
              <a:avLst>
                <a:gd name="adj1" fmla="val 50000"/>
                <a:gd name="adj2" fmla="val 5006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83" name="Group 16"/>
          <p:cNvGrpSpPr/>
          <p:nvPr/>
        </p:nvGrpSpPr>
        <p:grpSpPr>
          <a:xfrm>
            <a:off x="8305920" y="2463840"/>
            <a:ext cx="4483080" cy="4216320"/>
            <a:chOff x="8305920" y="2463840"/>
            <a:chExt cx="4483080" cy="4216320"/>
          </a:xfrm>
        </p:grpSpPr>
        <p:pic>
          <p:nvPicPr>
            <p:cNvPr id="584" name="Picture 14" descr=""/>
            <p:cNvPicPr/>
            <p:nvPr/>
          </p:nvPicPr>
          <p:blipFill>
            <a:blip r:embed="rId3"/>
            <a:stretch/>
          </p:blipFill>
          <p:spPr>
            <a:xfrm>
              <a:off x="8305920" y="2463840"/>
              <a:ext cx="4483080" cy="42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AutoShape 15"/>
            <p:cNvSpPr/>
            <p:nvPr/>
          </p:nvSpPr>
          <p:spPr>
            <a:xfrm rot="10980000">
              <a:off x="8642160" y="4105440"/>
              <a:ext cx="3754440" cy="636480"/>
            </a:xfrm>
            <a:custGeom>
              <a:avLst/>
              <a:gdLst/>
              <a:ahLst/>
              <a:rect l="l" t="t" r="r" b="b"/>
              <a:pathLst>
                <a:path w="21600" h="20920">
                  <a:moveTo>
                    <a:pt x="11" y="10460"/>
                  </a:moveTo>
                  <a:lnTo>
                    <a:pt x="2285" y="91"/>
                  </a:lnTo>
                  <a:lnTo>
                    <a:pt x="2290" y="5321"/>
                  </a:lnTo>
                  <a:lnTo>
                    <a:pt x="19320" y="6001"/>
                  </a:lnTo>
                  <a:lnTo>
                    <a:pt x="19315" y="771"/>
                  </a:lnTo>
                  <a:lnTo>
                    <a:pt x="21611" y="11322"/>
                  </a:lnTo>
                  <a:lnTo>
                    <a:pt x="19337" y="21691"/>
                  </a:lnTo>
                  <a:lnTo>
                    <a:pt x="19332" y="16461"/>
                  </a:lnTo>
                  <a:lnTo>
                    <a:pt x="2302" y="15781"/>
                  </a:lnTo>
                  <a:lnTo>
                    <a:pt x="2307" y="21011"/>
                  </a:lnTo>
                  <a:lnTo>
                    <a:pt x="11" y="10460"/>
                  </a:lnTo>
                  <a:close/>
                  <a:moveTo>
                    <a:pt x="11" y="10460"/>
                  </a:move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86" name="Group 19"/>
          <p:cNvGrpSpPr/>
          <p:nvPr/>
        </p:nvGrpSpPr>
        <p:grpSpPr>
          <a:xfrm>
            <a:off x="12779280" y="1689120"/>
            <a:ext cx="3365640" cy="5753160"/>
            <a:chOff x="12779280" y="1689120"/>
            <a:chExt cx="3365640" cy="5753160"/>
          </a:xfrm>
        </p:grpSpPr>
        <p:pic>
          <p:nvPicPr>
            <p:cNvPr id="587" name="Picture 17" descr=""/>
            <p:cNvPicPr/>
            <p:nvPr/>
          </p:nvPicPr>
          <p:blipFill>
            <a:blip r:embed="rId4"/>
            <a:stretch/>
          </p:blipFill>
          <p:spPr>
            <a:xfrm>
              <a:off x="12779280" y="1689120"/>
              <a:ext cx="3365640" cy="57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AutoShape 18"/>
            <p:cNvSpPr/>
            <p:nvPr/>
          </p:nvSpPr>
          <p:spPr>
            <a:xfrm rot="16200000">
              <a:off x="11996640" y="3993840"/>
              <a:ext cx="5418360" cy="91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584" y="0"/>
                  </a:lnTo>
                  <a:lnTo>
                    <a:pt x="1584" y="5400"/>
                  </a:lnTo>
                  <a:lnTo>
                    <a:pt x="20016" y="5400"/>
                  </a:lnTo>
                  <a:lnTo>
                    <a:pt x="20016" y="0"/>
                  </a:lnTo>
                  <a:lnTo>
                    <a:pt x="21600" y="10800"/>
                  </a:lnTo>
                  <a:lnTo>
                    <a:pt x="20016" y="21600"/>
                  </a:lnTo>
                  <a:lnTo>
                    <a:pt x="20016" y="16200"/>
                  </a:lnTo>
                  <a:lnTo>
                    <a:pt x="1584" y="16200"/>
                  </a:lnTo>
                  <a:lnTo>
                    <a:pt x="1584" y="21600"/>
                  </a:lnTo>
                  <a:lnTo>
                    <a:pt x="0" y="10800"/>
                  </a:lnTo>
                  <a:close/>
                  <a:moveTo>
                    <a:pt x="0" y="10800"/>
                  </a:move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 - Diges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90b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"/>
                <a:ea typeface="Arial"/>
              </a:rPr>
              <a:t>Glamourous assistants will show what different parts of the digestive system do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558e28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28"/>
                </a:solidFill>
                <a:latin typeface="Arial"/>
                <a:ea typeface="Arial"/>
              </a:rPr>
              <a:t>Annotate your diagram to show what your have learnt about each stage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Endoscopy, Endoscopia-1.mov" descr="32 Digestive system.ppt_media/Endoscopy, Endoscopia-1.mov"/>
          <p:cNvPicPr/>
          <p:nvPr/>
        </p:nvPicPr>
        <p:blipFill>
          <a:blip r:embed="rId1"/>
          <a:stretch/>
        </p:blipFill>
        <p:spPr>
          <a:xfrm>
            <a:off x="0" y="-685800"/>
            <a:ext cx="16256160" cy="108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 rot="16542600">
            <a:off x="7983720" y="5123880"/>
            <a:ext cx="4483080" cy="31874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2"/>
          <p:cNvSpPr/>
          <p:nvPr/>
        </p:nvSpPr>
        <p:spPr>
          <a:xfrm>
            <a:off x="5068800" y="324000"/>
            <a:ext cx="369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200" tIns="0" bIns="0" anchor="t">
            <a:spAutoFit/>
          </a:bodyPr>
          <a:p>
            <a:pPr marL="50760">
              <a:lnSpc>
                <a:spcPct val="100000"/>
              </a:lnSpc>
              <a:tabLst>
                <a:tab algn="l" pos="0"/>
                <a:tab algn="l" pos="50760"/>
                <a:tab algn="l" pos="1270080"/>
                <a:tab algn="l" pos="2489040"/>
                <a:tab algn="l" pos="3708360"/>
                <a:tab algn="l" pos="4927680"/>
                <a:tab algn="l" pos="6146640"/>
                <a:tab algn="l" pos="7365960"/>
                <a:tab algn="l" pos="8585280"/>
                <a:tab algn="l" pos="9804240"/>
                <a:tab algn="l" pos="11023560"/>
                <a:tab algn="l" pos="12242880"/>
                <a:tab algn="l" pos="13461840"/>
                <a:tab algn="l" pos="138304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 Bold"/>
                <a:ea typeface="Verdana Bold"/>
              </a:rPr>
              <a:t>1.5 Match them 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4" name="Picture 3" descr=""/>
          <p:cNvPicPr/>
          <p:nvPr/>
        </p:nvPicPr>
        <p:blipFill>
          <a:blip r:embed="rId2"/>
          <a:stretch/>
        </p:blipFill>
        <p:spPr>
          <a:xfrm>
            <a:off x="12034800" y="4572000"/>
            <a:ext cx="3949560" cy="4292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" descr=""/>
          <p:cNvPicPr/>
          <p:nvPr/>
        </p:nvPicPr>
        <p:blipFill>
          <a:blip r:embed="rId3"/>
          <a:stretch/>
        </p:blipFill>
        <p:spPr>
          <a:xfrm>
            <a:off x="571680" y="4572000"/>
            <a:ext cx="3365280" cy="4292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4"/>
          <a:stretch/>
        </p:blipFill>
        <p:spPr>
          <a:xfrm>
            <a:off x="4762440" y="4394160"/>
            <a:ext cx="3365640" cy="4635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599400" y="3322800"/>
            <a:ext cx="31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36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lli in the smal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stin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480640" y="3527280"/>
            <a:ext cx="150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36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9002880" y="3527280"/>
            <a:ext cx="183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36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2848760" y="3527280"/>
            <a:ext cx="26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36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esophagu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71320" y="774360"/>
            <a:ext cx="15125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522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50760"/>
                <a:tab algn="l" pos="1270080"/>
                <a:tab algn="l" pos="2489040"/>
                <a:tab algn="l" pos="3708360"/>
                <a:tab algn="l" pos="4927680"/>
                <a:tab algn="l" pos="6146640"/>
                <a:tab algn="l" pos="7365960"/>
                <a:tab algn="l" pos="8585280"/>
                <a:tab algn="l" pos="9804240"/>
                <a:tab algn="l" pos="11023560"/>
                <a:tab algn="l" pos="12242880"/>
                <a:tab algn="l" pos="13461840"/>
                <a:tab algn="l" pos="138304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lenary - </a:t>
            </a:r>
            <a:r>
              <a:rPr b="0" lang="en-US" sz="4800" spc="-1" strike="noStrike" u="sng">
                <a:solidFill>
                  <a:srgbClr val="005a7c"/>
                </a:solidFill>
                <a:uFillTx/>
                <a:latin typeface="Arial"/>
              </a:rPr>
              <a:t>Match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50760"/>
                <a:tab algn="l" pos="1270080"/>
                <a:tab algn="l" pos="2489040"/>
                <a:tab algn="l" pos="3708360"/>
                <a:tab algn="l" pos="4927680"/>
                <a:tab algn="l" pos="6146640"/>
                <a:tab algn="l" pos="7365960"/>
                <a:tab algn="l" pos="8585280"/>
                <a:tab algn="l" pos="9804240"/>
                <a:tab algn="l" pos="11023560"/>
                <a:tab algn="l" pos="12242880"/>
                <a:tab algn="l" pos="13461840"/>
                <a:tab algn="l" pos="13830480"/>
              </a:tabLst>
            </a:pPr>
            <a:r>
              <a:rPr b="0" lang="en-US" sz="4000" spc="-1" strike="noStrike">
                <a:solidFill>
                  <a:srgbClr val="005a7c"/>
                </a:solidFill>
                <a:latin typeface="Arial Italic"/>
                <a:ea typeface="Arial Italic"/>
              </a:rPr>
              <a:t>Task: Match each body part to the correct picture.  Write your explanations down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dcterms:modified xsi:type="dcterms:W3CDTF">2013-05-20T02:00:10Z</dcterms:modified>
  <cp:revision>6</cp:revision>
  <dc:subject/>
  <dc:title>Presentación de PowerPoint</dc:title>
</cp:coreProperties>
</file>